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79DF8-7DAC-428B-BABE-FFAF1D4F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E2782-2AB7-4D80-8675-02249B40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E2F09-3F10-4E5F-89F1-846572ED6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1E02A-5277-4128-BE9F-E4F772CDC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93D6D-2845-4E86-9352-6599B31A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DFA22-2A88-436A-9751-3D62ACD8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1AC6F-0A23-4821-9DBE-2059173D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96A40-9723-4EDB-BE62-B360278D0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A0358-04B5-4D16-A981-A8485F332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BE2D4-E916-4E48-9917-F9274671D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B7237-3604-4CCE-9514-1CB21267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AFB9F-771E-43EC-963D-5D235494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3A449-24A7-4C87-93CB-6201DA428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1A444-E3A8-4EF6-AF42-96D092EF5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A5CE1-72FE-45AB-AED7-2E1B2471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FFFF5-A5D5-4996-9213-4D3632FF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CA3E3-AAC2-430D-A415-6C5188DCD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8AB6A-C59F-46A9-A519-1AB0287B9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558F6-E021-4739-9706-00239170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D1CBC-A4D8-4175-9C5F-4AFEF34D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4F20B-C404-4DF0-9DEA-7795C1E2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E611F-350A-4BC1-9941-B676DED2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3B8D6-5112-4C7C-8DDE-8A674C126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CC0A1-2A1C-4675-8680-559BAEDD4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41D33-128D-4367-B6C7-8CC593FD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E4E5C-B799-4655-BF62-8B800D70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ED9C6-4DD7-46BB-A705-0213F1004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CB42C-ACC7-41E0-851F-B4A3E0A8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C0C22-D13D-47CE-88D4-10C2C5CC7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4AF8B-ABD1-4EEA-80F1-A5A73938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1E7D8-C5A7-4071-9136-707CE16DC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1DBCB-09A3-4A7B-957E-A8392C15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C5E08-E6BD-4E6A-8AC2-3660E727F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8CBD8-0D59-4C4E-903E-743564166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48F07-8AD6-409D-A4F6-5DEA121F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6CB6A-E604-406E-B96B-C3A857597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3727-2E71-49FF-8482-6303A929E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C2BE-0164-4318-8210-84B600695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3AA4-C836-483C-B907-BC1E78CC3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500A-9C5B-4300-B5B3-9058C797E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ECF2-DAE5-4A42-9DED-6A7638AA1E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F231-9B66-4F51-9203-A6999700F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F51E-3BA0-4BD4-8023-2D7985314B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D129-D521-4B3D-87BD-7C3EFBA37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38FE-70E1-4FD4-9667-5674D15518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092B-9F42-49BB-8E1D-D2A4071CFA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BE17-435C-4541-8812-C282C6041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51CB-0025-4DC7-AF25-63AFF78F5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BD01-B61F-4D21-ABBC-1A05A0AE21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B335-F24C-47D9-98BF-AB3DF98903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1619-0DED-438D-AAD3-CC3DE74992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ED7C-F369-4228-96CE-0432C8F1D7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D9B7-23BC-4CEB-9D15-B7CBBAEE6E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4CD-6D33-42AD-85B5-ED71980D7B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59E-9258-4F99-8099-6B8E514C35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904-18C7-4180-B1D3-A01264138D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0BE-34E9-40A5-9CB4-2464AA676C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122-2A90-4286-8092-D5A4A2C45B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1637-1CBA-4277-8C78-8A684CB9CA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B4A-99AC-486E-8D2D-2056E65F5F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E52-8CD2-4FD5-8DAD-69E23E0C0E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39E-5035-405A-BDAC-473820853B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EAE-E5AF-4427-B681-0507285382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40C-557E-4624-B9C4-685C7E4AA0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898-A4C1-47B2-BF55-F32861A053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A38-7FFB-41D0-8461-D8D670C3E1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1E9CB-6041-41FA-AAD9-5AD32DC73D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13CE6-9293-495C-A757-51915EB1A9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95C72-E7B6-4C00-8DB8-1038B846C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9B80-70D9-416F-81CF-9FBE0CE100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55F54-9E91-4666-BAF5-EEAF8930AE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CE17D-94E2-4CB6-853C-5EB79D304F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20B66-E021-4314-B907-53F746E724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FB6C3-2096-4CEC-AE07-9CE52C6254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1E749-B641-4464-8941-AD5108E2F1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3751D-9B0C-4F08-86A2-6C3935F00D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C37D1-C539-4F61-866E-6E661C7087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4A6A1-89B1-4745-AE2D-164CD657F7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83341-FE29-4ABF-969C-508FECDC2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C79B-6A19-4C62-B2E9-73721B337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1B7A-6B87-41B2-AA5F-2EEA1BBD8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7079-5E68-47AC-AA4B-AA269E93A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BA8B-215F-4844-BF3C-5D8693CFE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942E-9F2E-4189-9A6D-051DED60D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9881C-579F-441F-906C-90D74CA3A6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F4F85-14A9-4DA2-AE70-8FDD8A5986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C03BD-E73A-4CA6-94AA-370CD2177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E5BC1-7194-4709-869A-A354D9149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he third mo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inth u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898989"/>
                </a:solidFill>
                <a:latin typeface="Calibri"/>
              </a:rPr>
              <a:t>REHABILITATION OF PATIENTS WITH THE LESION OF PERIPHERAL MOTOR NEU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The nervus facialis is the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VII cranial nerve which provides motor innervation of the mimic musculature 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arasympatetic innervation of the lacrimal, submandibular and sublingual glands, while providing gustative perception from the anterior two-thirds of tongue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Its motor nucleus is located in the pons and on its exit from the brainstem it passes through the pontocerebellar angle, enters the bone canal (canalis nervi facialis-Fallopian canal) in the petrous bone and exits through the stylomastoid foramen under the ear, after which it branches and innervates the facial muscles (mimic musculature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5335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facial nerve lesions, regardless of the level, starting from the motor cells located in the motor nucleus in the pons to its ending branches, lead to peripheral facial pal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peripheral facialis”, “prosopoplegia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Bell's facial pal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45720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ten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ld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pecial sensitivity to cool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sure of the face to the co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“draught” near the open window of a car or train, wind blow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hich leads to the sudden asymptomatic palsy of the mimic musculature on one side of the face and is cal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LL'S FACIAL PALSY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paralysis a frig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755640" y="993600"/>
            <a:ext cx="8077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criteria for diagnosing Bell's facial pals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re as foll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dden beginning of one-sided paresys or palsy of the facial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ck of signs of the CNS dam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bscence of the middle ear dise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r the posterior cranial fossa disease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torhinolaryngologist and neurolog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pection reveals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cial assymetr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 result o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lsy of one half of the facial mimic musc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alf of the forehead is without wrink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eyebrow is lowe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nasolabial fold is fla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t side of the mouth droo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476360" y="1916280"/>
            <a:ext cx="70102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edicamentous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53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457200" y="2779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540320" cy="337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908600" y="2660760"/>
            <a:ext cx="42354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908600" y="2433600"/>
            <a:ext cx="40068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Upper extrem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Axillary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Laesio nervi axillaris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 deltoideus, which is clinically manifested by inability to elevate the ar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aise) above the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should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Musculocutaneous nerve injur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Laesio nervi musculo-cutanei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bice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rachii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upi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rotate face-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 ar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dial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esio nervi radiali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leads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s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s exten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of the lower-arm, hand and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traight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-arm, hand and fingers and gives a clinical picture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wrist dro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dianus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media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 be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f the hand and first three fingers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 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hand and the first three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Benediction sign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nar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ulnar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small muscles of the hand and flexors of the ring and little finger, 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bend) the ring and little finger, and weak finger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abduction and ad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claw hand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wer extrem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perone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sio nervi peronealis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dorsal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oss of dorsal flex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nd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of the foot and toes and inability to do heel-walk on the affected foot, and gives a clinical picture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drop foo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The patient is unable to hold the foot up, and thus raises the thigh up while walking to decrease the risk of tripping, and the toes hit the ground first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cock-walk  gait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 posterior tibi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io nervi tibialis posteri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plantar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ack of plantar flexion of the foot and toes and inability to do toe-walk on the affected fo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 During a stance phase of the affected leg, the limb support is on the heel first and the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omes the toe-dr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leaving the foot flat on the groun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steppage 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gai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ANATOMOPHYS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conducts the stimuli from the periphery to the central nervous system and vice vers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invol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keletomotor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еfferent fib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ensory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аfferent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Vegetative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ympaticus and parasympati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GENERAL PRINCIPLES OF PHYSICAL THERAPY FOR PERIPHERAL NERVE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08120" indent="-708120" algn="just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Unlike the central motor neurons, the peripheral nerves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re capable of re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120" indent="-708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nabling thus the functional reco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c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ke various amounts of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epending on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level of lesion an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gree of damag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timely and adequate medicamentous and physical treatment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0" y="277920"/>
            <a:ext cx="9144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hysical therapy  – tasks and ai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To provide optimal conditions for the tissue regeneration and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aintain the effectors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muscles) until the nerve regeneration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For the purpose of achieving maximum possible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function recovery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f recov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21932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movement disord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araly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recovery of the damaged nerve func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paresys)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permanent sequels of pals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Physical tre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 very important component in the process of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restoring functioning of the patients with peripheral motor neuron dise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he treatment of PMN lesion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ncludes almost all physical procedure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but the following trias is most important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Kinesitherapy</a:t>
            </a:r>
            <a:r>
              <a:rPr b="1" lang="sr-Latn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Longitudinal galvanization along the nerve projection and ЕS with exponential current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324160" y="2178000"/>
            <a:ext cx="449568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Technique of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696960" y="2529000"/>
            <a:ext cx="3558960" cy="2668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bipolar and monopola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862440" cy="28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Parameters for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meters for electrostimulation are determined according to Manual Muscle Testing Grading Syste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approximate impulse and pause duration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pending on the grade of peripheral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r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( 500-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00 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oderat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(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ild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( 50-12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muscl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---( 0,1- 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2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500/2000,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0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50/500, 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+ -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according to MM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2514600" y="2209680"/>
            <a:ext cx="6172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0”, “1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ssisted(“2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“3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resisted (“4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066680" y="152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ETIOLOGY OF THE PMN DAM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f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virus herpes zoster, virus hepatita, polyo viru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etc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alcoho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arbon-monoxide, parathion, carbon-disulfi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heavy metal poisoning, botulism, toxin dyphteria, drug poisoning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abolic disord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uremia, porphyria, amyloidosi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riber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coholism, hyper and hypothyreoidism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umo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benign and malignant tumo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spondylophyt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and osteophy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raumatic 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Sec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raumatic sec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ith a sharp knife or sharp bone fragment in a bone fra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Favourable effect of exercising in water is mainly based on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ording to Archimedes’ principle,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object immersed in a fluid experiences an apparent weight loss equal to the weight of the fluid displaced, and also a decreased impact of gravity, which helps muscles, whose strength is insufficient for performing land movements, to easily perform exercises in water. water temperature reduces muscle spasm and improves circulat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scle weakness, greater efficacy in exercise has a beneficial psychological eff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67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Dosed training load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Progressive increase and decrease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scending and descending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escendo and decresc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335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xford exercis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re determined once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De-Lorme metho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Progressive resistance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 exercis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are determined once 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Sensory re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0" y="1295280"/>
            <a:ext cx="8915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the palsy of the peripheral nerves which have abundant sensory innerva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ch as the lesion of the N. medianus, due to axonal disruption, which is almost inevitable occurrence in the lesion of the N. medianus, such as a neurotmesis injury, there occurs wrong reinnervation of the receptors, which is accompani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tereogn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inability to identify the shape, size, weight and type of the material which is placed in the patient's hand, in the absence of visual stimul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ereognosis trai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volves manual exploration of differen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shapes, sizes, weights and textures of the ob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first three fingers of the corresponding hand (the skin of other fingers is protected with a glove) without using one's visu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ORTH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revent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wellin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ures and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verstretching of the paralyz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s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57200" y="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COVERY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alvanic curre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galvani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hydroelectric) bath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Drug electrophore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asodilato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Аnalge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Bernard'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DDC)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nential 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F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analgetic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45720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node galv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Electroforesis of Novoc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uc's current "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Ultra-Rei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" or Ultrastimulation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currents (by Trabert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I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VELS OF DAM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SION LOC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752480" y="266688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egment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radicular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GRAD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DEGREE OF NERVE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prax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erve contu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transito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sorder of the nerve function caused by effect of 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Axonotm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xon disru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pathoanatomical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injury of the axons and their myelin sheat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ereby Schwann's sheaths are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ubu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mainly undisturbed, which is the reason for considering axonotmes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nerve lesion “in continuity“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tme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mplete nerve disrup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most severe form of an injury, whereby its distal segment is subject to Wallerian degener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94284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IAGNOSING THE LESIONS OF THE PERIPHER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258920" y="2205000"/>
            <a:ext cx="6477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mputerized tomography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M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uclear magnetic resonanc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MYEL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LECTROMY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Clinical examination of the motor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2286000" y="2286000"/>
            <a:ext cx="548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Insp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Refle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0" t="0" r="22589" b="0"/>
          <a:stretch/>
        </p:blipFill>
        <p:spPr>
          <a:xfrm>
            <a:off x="4038480" y="1752480"/>
            <a:ext cx="182880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457200" y="277920"/>
            <a:ext cx="815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nual muscle test (MMT) for evaluation of muscle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5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4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7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“3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5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2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2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1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0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5"   - maintained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1, 2, 3, 4   - paresys or partial muscle strength or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0" -  paralysis or complete loss of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35:23Z</dcterms:created>
  <dc:creator>Mark Ricard</dc:creator>
  <dc:description/>
  <dc:language>en-US</dc:language>
  <cp:lastModifiedBy>Nada Miklja</cp:lastModifiedBy>
  <dcterms:modified xsi:type="dcterms:W3CDTF">2023-09-27T08:32:24Z</dcterms:modified>
  <cp:revision>44</cp:revision>
  <dc:subject/>
  <dc:title>Introduction To Manual Muscle Testing</dc:title>
</cp:coreProperties>
</file>